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5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4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85E3-8C7C-44E5-834F-609DE11B6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7D87-7344-4677-ADD5-A7C8B983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EC14-7FB8-421F-B643-7F2F81D9E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480B-7B91-439A-8AE9-571A2D61F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3539-A990-4722-9213-6D830D3C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EFDF-3C8E-4DB6-88B1-76BE5806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F1F4-5AD3-4395-B509-123327A3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E916-8649-4173-A79E-94D79922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257F-4170-426A-B79B-03F08784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6862-A9EC-44DB-88D3-307D9EE1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9AB3-179E-404E-9722-24DE2722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4E9B-A883-466F-B6C1-17A39566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2949-11A5-4F90-A1D8-299E43359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PCAKE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By An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My topic is cupcake’s I love them so 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65160" y="1600200"/>
            <a:ext cx="3021120" cy="45259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PCAKES R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ve the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3657600" cy="16113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295 E">
                                      <p:cBhvr>
                                        <p:cTn id="28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pcake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upcakes make me smi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1903680" cy="2381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743200" y="2057400"/>
            <a:ext cx="1658880" cy="1800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400800" y="4038480"/>
            <a:ext cx="1523880" cy="1981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666880" y="4267080"/>
            <a:ext cx="851040" cy="978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609480" y="2286000"/>
            <a:ext cx="1225800" cy="1832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990720" y="4038480"/>
            <a:ext cx="1225440" cy="18320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PCAKE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pcakes  roc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670040" cy="2154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666880" y="1447920"/>
            <a:ext cx="1828800" cy="1752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724280" y="40384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52280" y="3657600"/>
            <a:ext cx="2286000" cy="20574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1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PCAK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ve cupcake’s it’s impossible not to!! :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1947960" cy="1919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209680" y="1143000"/>
            <a:ext cx="2057400" cy="2590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800600" y="4572000"/>
            <a:ext cx="1800360" cy="1533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533520" y="4095720"/>
            <a:ext cx="3429000" cy="781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15:22:28Z</dcterms:created>
  <dc:creator>Yellow Springs Exempted Village School District</dc:creator>
  <dc:description/>
  <dc:language>en-US</dc:language>
  <cp:lastModifiedBy>Yellow Springs Exempted Village School District</cp:lastModifiedBy>
  <dcterms:modified xsi:type="dcterms:W3CDTF">2011-11-17T15:35:30Z</dcterms:modified>
  <cp:revision>14</cp:revision>
  <dc:subject/>
  <dc:title>CUPCAKE’S</dc:title>
</cp:coreProperties>
</file>